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A0C7-FDEF-4598-A0B7-2ED7A948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the rules of discussion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F24-FC96-4CDC-B83D-8FD3EA2E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9FE-5BC9-42CE-B489-18DE7B9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BEC-B14D-4654-BDF5-6DB50AD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1AF-BF25-4D24-9B72-EC77D269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5D4-B719-4584-A7DC-60688A0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72D-6567-4978-9620-28D38533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4B9-DB3D-4006-8B48-7D1DE3D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B72-F078-432A-96E9-A6F40BDE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122-7F9A-4D77-A3C7-B9AF714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66B-9EDE-4CAE-8568-6E025D84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2F5-0299-4334-9D74-7979FA5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7A5-8A03-4BB6-8E87-B0C4615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1EAD-5C64-4B87-A04D-366EE282E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etnamese Group Visit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romoting Discussion for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teractive Learning </a:t>
            </a:r>
            <a:br>
              <a:rPr sz="3600"/>
            </a:br>
            <a:br>
              <a:rPr sz="4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ril 21 &amp; 22, 2008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) Stimulat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ought-provoking question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 few minutes to write down their answers, then present them to the whole clas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students who might provide an unusual viewpoint; generate many perspectives on one issu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) Guide the discu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the opportunity to speak; not always the same stud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students’ ideas &amp; ask for com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positively about students’ contribu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ssues discussed &amp; highlight key poi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e discussion become a heated argu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 can you do if: </a:t>
            </a:r>
            <a:br>
              <a:rPr sz="2800"/>
            </a:br>
            <a:br>
              <a:rPr sz="28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whole group is silent &amp; unresponsiv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y these techniques to start discussions:</a:t>
            </a:r>
            <a:br>
              <a:rPr sz="28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yramid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uzz Groups: 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ll groups of 2, 3, or 4 students discuss a topic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or a short period (5-10 minutes)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What are some topics in your specific area that you could use for student discussions?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Come up with at least one question or problem for students to discuss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s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 sits in a circle &amp; turn passes round the circ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student in the group takes a turn speaking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person speaks once before anyone speaks a second time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alanced pattern of interaction makes it much more likely that individuals will speak agai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yramid or “snowballing”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Students will share many different opinions on a topic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by: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orking alone first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n in pair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ke a group of four or six peop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inally, the whole group disc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student interaction in lectur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’s role when using discussion</a:t>
            </a:r>
            <a:br>
              <a:rPr sz="28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techniques to introduce discussion into your lectures: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Buzz Group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Round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Pyramids or “Snowball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600"/>
            </a:br>
            <a:br>
              <a:rPr sz="28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y add discussions to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raditional lectures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200"/>
            </a:br>
            <a:br>
              <a:rPr sz="24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 add discussions to existing lectures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interaction improves students’ learning proces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- compare their knowledge with each other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may be more than one correct answer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jectives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ter today’s session, learners should be able to: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&amp; reflect upon how interaction might improve stud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 at least one way to introduce discussion into a traditional lecture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positive learning environment for instructors &amp;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structor’s role when using discussion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 Techniques for starting discussions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Set objectives for each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br>
              <a:rPr sz="2400"/>
            </a:b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You might want your students to be able to: </a:t>
            </a:r>
            <a:br>
              <a:rPr sz="27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velop their negotiation or communication ski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late their discussions to a cours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) Select appropriate forms of class discu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group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a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udents followed by class discussions &amp; summar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Set up room to encourage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ifferent room-settings affect student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ting in a circle allows everyone to see &amp; communicate with each other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 circulates among small groups to answer questions or clarify the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Create a climate to facilitate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topics &amp; introduce key term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fficient time for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ru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ill students take turns speaking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Clarify the appropriate ways to interrup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2:20:32Z</dcterms:created>
  <dc:creator>University of Calgary</dc:creator>
  <dc:description/>
  <dc:language>en-US</dc:language>
  <cp:lastModifiedBy>University of Calgary</cp:lastModifiedBy>
  <dcterms:modified xsi:type="dcterms:W3CDTF">2008-04-21T18:07:45Z</dcterms:modified>
  <cp:revision>479</cp:revision>
  <dc:subject/>
  <dc:title>Large Classes</dc:title>
</cp:coreProperties>
</file>